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56101"/>
        <c:axId val="67862278"/>
      </c:barChart>
      <c:catAx>
        <c:axId val="26956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62278"/>
        <c:crosses val="autoZero"/>
        <c:auto val="1"/>
        <c:lblAlgn val="ctr"/>
        <c:lblOffset val="100"/>
        <c:noMultiLvlLbl val="0"/>
      </c:catAx>
      <c:valAx>
        <c:axId val="67862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56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12C-98B5-4788-B85A-EAB68892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F7A-E39D-41F5-96A0-8A5A938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D24-0E06-49E7-8551-1A54404D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DE0-81A0-4866-BB39-2267D201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FF6-5676-422F-BDDE-A85A9D7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165-2B4E-48FD-9C81-5B33B68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7A7-6721-4893-90E5-8C5E3DB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39A-10F4-4265-9088-7F6F852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764-8F5A-4CCF-B7BC-F68AA624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5CE-1F7D-497B-9858-3777CB5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CDE-337A-47A9-A1FC-7E484C9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BB5-F6AA-4007-9BE7-0381D53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072B-F3ED-40F2-A1B5-88E4A50BBE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