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86318"/>
        <c:axId val="71351693"/>
      </c:barChart>
      <c:catAx>
        <c:axId val="28886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51693"/>
        <c:crosses val="autoZero"/>
        <c:auto val="1"/>
        <c:lblAlgn val="ctr"/>
        <c:lblOffset val="100"/>
        <c:noMultiLvlLbl val="0"/>
      </c:catAx>
      <c:valAx>
        <c:axId val="71351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86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55D-330E-47FC-BA00-219CCB3E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440-A843-420F-BA77-D2EFF8A0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48C-C649-441E-9EBF-8BBED0D6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0CF-FD77-41A1-9AAD-1CD553D9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14B-6534-4F5F-9C09-6C33C196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8E1-9DD2-4971-B9B9-2C612394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9AE-5B87-4699-A722-CC24CA05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A5B-88F1-495B-B1CC-CF502784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2F3-C8A9-4FF6-A2E5-792CE5A8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C7E-D273-4E3C-8D8B-09938633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677-51F4-46EF-A33D-7CDB0A33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1D3-0FA1-4D19-87A2-4B769CD4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6FB3D-6B29-4FDC-B16A-2266167744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