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097321"/>
        <c:axId val="85184829"/>
      </c:barChart>
      <c:catAx>
        <c:axId val="970973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184829"/>
        <c:crosses val="autoZero"/>
        <c:auto val="1"/>
        <c:lblAlgn val="ctr"/>
        <c:lblOffset val="100"/>
        <c:noMultiLvlLbl val="0"/>
      </c:catAx>
      <c:valAx>
        <c:axId val="851848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0973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AF30-B48D-4969-836C-83499D593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11B8-14C1-453F-BBA9-95E0AF0C1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636B-35CE-4C57-A210-7E58DFBCC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2726-37E3-48EA-9C87-2787C9234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12B9-3337-4B1B-AEF7-F1386B33F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44F7-1099-4080-BD68-C4636546E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AF32-A5F7-47A1-A8F2-B70993B9D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0F89-E0DE-427A-8512-B45BFC2F9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0663-5BFD-4385-A0F2-6B3959314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1339-5E13-4F3E-AE09-9CCAAD6D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2AF2-CA63-41D7-8253-A5AA5D09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BC50-54E4-4C4F-9C0D-57AE63E53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E09AA3-7FE0-4236-8764-ADC64523354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