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198206"/>
        <c:axId val="56965720"/>
      </c:barChart>
      <c:catAx>
        <c:axId val="731982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965720"/>
        <c:crosses val="autoZero"/>
        <c:auto val="1"/>
        <c:lblAlgn val="ctr"/>
        <c:lblOffset val="100"/>
        <c:noMultiLvlLbl val="0"/>
      </c:catAx>
      <c:valAx>
        <c:axId val="569657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1982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023A-C38D-44CD-961A-03CEF6715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498B-A444-4F49-8267-BF01EB23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E922-B6D0-491C-BA6C-EC0233B35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AE7E-E2A4-4E3D-BAA7-53BA3DD86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98B1-17B0-4D13-BE95-A8BCD11E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864F-7523-42A4-8CAA-EDAF0533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39C6-AFF2-4CF0-8AF7-8398B00D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4538-84AC-4834-964F-CD177F1D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BF4B-6D01-4C7C-A582-C8703326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077E-5E52-482D-ADD7-7D384AD6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F8BA-D1B1-46E3-9591-E0759ADA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D0BC-2F3A-48A4-8FCD-32B3A2EF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DD9E56-8129-43F9-BE78-A73081D945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